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3840" y="182520"/>
            <a:ext cx="952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3840" y="6438960"/>
            <a:ext cx="952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38920" y="6248520"/>
            <a:ext cx="2514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067520" y="6340320"/>
            <a:ext cx="2146320" cy="441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68200" y="6381720"/>
            <a:ext cx="1047960" cy="1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IfM logo"/>
          <p:cNvPicPr/>
          <p:nvPr/>
        </p:nvPicPr>
        <p:blipFill>
          <a:blip r:embed="rId3"/>
          <a:stretch/>
        </p:blipFill>
        <p:spPr>
          <a:xfrm>
            <a:off x="493560" y="6316560"/>
            <a:ext cx="723960" cy="352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00080" y="573120"/>
            <a:ext cx="33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Review of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17440" y="2662200"/>
            <a:ext cx="2583000" cy="194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arly-sta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99000" y="2660760"/>
            <a:ext cx="2582640" cy="194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d-sta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5800" y="2658960"/>
            <a:ext cx="2583000" cy="194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te-sta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chnolog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valid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6240" y="4984920"/>
            <a:ext cx="770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65800" y="518652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im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94320" y="1947960"/>
            <a:ext cx="63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uating technologies in different development st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825480" y="1709640"/>
            <a:ext cx="8681760" cy="4370040"/>
            <a:chOff x="825480" y="1709640"/>
            <a:chExt cx="8681760" cy="4370040"/>
          </a:xfrm>
        </p:grpSpPr>
        <p:sp>
          <p:nvSpPr>
            <p:cNvPr id="52" name=""/>
            <p:cNvSpPr/>
            <p:nvPr/>
          </p:nvSpPr>
          <p:spPr>
            <a:xfrm>
              <a:off x="1179360" y="2785680"/>
              <a:ext cx="4606920" cy="66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Valu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roadmapp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42440" y="3861720"/>
              <a:ext cx="3986640" cy="910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ustomised portfol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metho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83680" y="3199680"/>
              <a:ext cx="2657520" cy="910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IT support tools such 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ase-based reaso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5480" y="1709640"/>
              <a:ext cx="2037240" cy="7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Early st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technolog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15400" y="1709640"/>
              <a:ext cx="2037240" cy="7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M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technolog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54920" y="4689720"/>
              <a:ext cx="4075200" cy="910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DCF/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65320" y="5683320"/>
              <a:ext cx="5492520" cy="39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Options think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02240" y="2537280"/>
              <a:ext cx="8505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37240" y="2040840"/>
              <a:ext cx="274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Increasing technology matur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991800" y="573120"/>
            <a:ext cx="575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Valuation and technology mat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- a tools and the valuation time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73120"/>
            <a:ext cx="772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An overview of needs, methods used, and g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89000" y="2379600"/>
            <a:ext cx="827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27440" y="1908000"/>
            <a:ext cx="62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58760" y="2511360"/>
            <a:ext cx="2570400" cy="351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means to visualise and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cuss what next generatio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be, take into accoun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certainty technical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et and organis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“gut feel” approach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lue roadma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given the inherent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certainty, balance betwee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alysis and imagination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y e.g. communication and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ual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2523960"/>
            <a:ext cx="2570040" cy="351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quantify and mitigat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risk contracts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tain full potential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Structured financi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, but technical risk do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trusted exp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reuse of accumula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0520" y="2509920"/>
            <a:ext cx="2570040" cy="351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how to selec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ologies coming out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for furth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, and how to “sell”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s to business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hybrid portfoli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communication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arency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-perspective appro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00080" y="522360"/>
            <a:ext cx="32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Overview of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36800" y="1452600"/>
          <a:ext cx="8229600" cy="4649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rly stag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 st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 st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roj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 for early stage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 for mid stage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 for late stage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lity to capture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lity to sell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 flipV="1" rot="10800000">
            <a:off x="1118880" y="4059360"/>
            <a:ext cx="8064360" cy="576000"/>
          </a:xfrm>
          <a:prstGeom prst="rtTriangle">
            <a:avLst/>
          </a:prstGeom>
          <a:solidFill>
            <a:srgbClr val="99cc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19240" y="2143080"/>
            <a:ext cx="8064360" cy="576360"/>
          </a:xfrm>
          <a:prstGeom prst="rtTriangle">
            <a:avLst/>
          </a:prstGeom>
          <a:solidFill>
            <a:srgbClr val="99cc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72040" y="4361040"/>
            <a:ext cx="218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s/Invest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35520" y="2190600"/>
            <a:ext cx="262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certainty, knowledge g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12:27:48Z</dcterms:created>
  <dc:creator>Rob Phaal</dc:creator>
  <dc:description/>
  <cp:keywords/>
  <dc:language>en-US</dc:language>
  <cp:lastModifiedBy>Dr. Marcel Dissel</cp:lastModifiedBy>
  <cp:lastPrinted>2001-09-04T10:45:25Z</cp:lastPrinted>
  <dcterms:modified xsi:type="dcterms:W3CDTF">2006-10-09T13:42:05Z</dcterms:modified>
  <cp:revision>352</cp:revision>
  <dc:subject/>
  <dc:title>No Slide Title</dc:title>
</cp:coreProperties>
</file>